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B75-73BB-45C9-9516-3CE8101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415-C331-4ABA-AB45-FEA3E48D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CAE-9886-4549-9B0D-D73F02B0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733-927F-4DD9-BA88-05BD8606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4B3C-9B7B-48EB-90FF-16E50233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13D8-6D0F-4489-B25E-4059C0C3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8B91-582A-4B47-807B-E4C9399B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AA0B-E982-4819-89B3-937750E7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27CD-3F73-4391-A053-63A0C82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2DBB-D96E-4854-99E6-32B8ACC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C5D2-B922-4A67-8AC7-689FCB3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D03-BE31-4FA2-B021-1207FFD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AE90-4091-4E31-A423-F9139B8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6BB5-A4C5-4713-84DA-BFC2EAFF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7E43-B432-401D-8469-DA673092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A9F1-E9EC-4280-8535-7CA25B85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10B8-2DA2-4634-98DF-F2398C97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07F-AE6D-4654-BD75-5FD0A34F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7CE-A091-40DE-985C-EC25BD22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115-C621-42C4-867B-BF45C617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BA0-C1FB-43C8-A664-00F4F9D7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1B1-EF11-467E-B4F4-51A28396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513-4B0F-4D24-90E9-054665D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60C-A2AA-4F0A-9EBD-183CCB89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A19E-473D-4A3F-A01F-CECBEE5AF9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37D8-3BE0-414B-95D7-9C9D1606D6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0400" y="152280"/>
          <a:ext cx="13017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301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 (redundant mapping to protei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26708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4114800"/>
            <a:ext cx="0" cy="10666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41911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1981080"/>
            <a:ext cx="10670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514600"/>
            <a:ext cx="1828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2590560"/>
            <a:ext cx="0" cy="15238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51460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=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able, not stellar performance on PostGreSQL with index on  (srcfeature_id, min, ma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ation of more sophisticated approaches yielded performance improvements in MySQL but not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 functions simplify queries, e.g.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elect * from contains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src,min,max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Dogm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ew seconds for 3 levels, al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nute to include all overlapping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3675000">
            <a:off x="2955240" y="4434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295280"/>
            <a:ext cx="266688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886200"/>
            <a:ext cx="7617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/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11120"/>
            <a:ext cx="208080" cy="190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642960"/>
            <a:ext cx="208080" cy="19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876240"/>
            <a:ext cx="208080" cy="19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179280"/>
            <a:ext cx="208080" cy="189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0360" y="1522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0360" y="3906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360" y="60156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0360" y="8128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3336840" y="1045800"/>
            <a:ext cx="1555920" cy="1533600"/>
          </a:xfrm>
          <a:prstGeom prst="rightArrow">
            <a:avLst>
              <a:gd name="adj1" fmla="val 53880"/>
              <a:gd name="adj2" fmla="val 39361"/>
            </a:avLst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3640" y="2514600"/>
            <a:ext cx="243864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4320" y="142920"/>
            <a:ext cx="1380960" cy="92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do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4"/>
            <a:endCxn id="345" idx="1"/>
          </p:cNvCxnSpPr>
          <p:nvPr/>
        </p:nvCxnSpPr>
        <p:spPr>
          <a:xfrm>
            <a:off x="4571640" y="316188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83876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5" idx="0"/>
          </p:cNvCxnSpPr>
          <p:nvPr/>
        </p:nvCxnSpPr>
        <p:spPr>
          <a:xfrm>
            <a:off x="4095360" y="2101320"/>
            <a:ext cx="93420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429000" y="182736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do XML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2"/>
            <a:endCxn id="347" idx="0"/>
          </p:cNvCxnSpPr>
          <p:nvPr/>
        </p:nvCxnSpPr>
        <p:spPr>
          <a:xfrm flipH="1">
            <a:off x="4095000" y="1066320"/>
            <a:ext cx="198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50" idx="3"/>
          </p:cNvCxnSpPr>
          <p:nvPr/>
        </p:nvCxnSpPr>
        <p:spPr>
          <a:xfrm>
            <a:off x="3467160" y="316188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8628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>
            <a:off x="3276000" y="2101320"/>
            <a:ext cx="81972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  <a:endCxn id="350" idx="0"/>
          </p:cNvCxnSpPr>
          <p:nvPr/>
        </p:nvCxnSpPr>
        <p:spPr>
          <a:xfrm flipH="1">
            <a:off x="3276360" y="1066680"/>
            <a:ext cx="838800" cy="156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866960" y="4584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3"/>
            <a:endCxn id="355" idx="2"/>
          </p:cNvCxnSpPr>
          <p:nvPr/>
        </p:nvCxnSpPr>
        <p:spPr>
          <a:xfrm flipV="1">
            <a:off x="2552760" y="3238200"/>
            <a:ext cx="534240" cy="17280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56" name=""/>
          <p:cNvCxnSpPr>
            <a:stCxn id="357" idx="0"/>
            <a:endCxn id="350" idx="2"/>
          </p:cNvCxnSpPr>
          <p:nvPr/>
        </p:nvCxnSpPr>
        <p:spPr>
          <a:xfrm flipH="1" flipV="1">
            <a:off x="3276360" y="3695400"/>
            <a:ext cx="832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5" idx="2"/>
            <a:endCxn id="357" idx="0"/>
          </p:cNvCxnSpPr>
          <p:nvPr/>
        </p:nvCxnSpPr>
        <p:spPr>
          <a:xfrm flipH="1">
            <a:off x="4107960" y="3695760"/>
            <a:ext cx="9216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endCxn id="355" idx="1"/>
          </p:cNvCxnSpPr>
          <p:nvPr/>
        </p:nvCxnSpPr>
        <p:spPr>
          <a:xfrm flipV="1">
            <a:off x="2438280" y="3161520"/>
            <a:ext cx="610560" cy="7246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60" name=""/>
          <p:cNvSpPr/>
          <p:nvPr/>
        </p:nvSpPr>
        <p:spPr>
          <a:xfrm>
            <a:off x="5638680" y="2809800"/>
            <a:ext cx="685800" cy="70488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d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2362320"/>
            <a:ext cx="169560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B Web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Gene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ome 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45" idx="3"/>
            <a:endCxn id="360" idx="2"/>
          </p:cNvCxnSpPr>
          <p:nvPr/>
        </p:nvCxnSpPr>
        <p:spPr>
          <a:xfrm>
            <a:off x="5219640" y="3161880"/>
            <a:ext cx="41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4"/>
            <a:endCxn id="361" idx="1"/>
          </p:cNvCxnSpPr>
          <p:nvPr/>
        </p:nvCxnSpPr>
        <p:spPr>
          <a:xfrm>
            <a:off x="6324120" y="31618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800760" y="4800600"/>
            <a:ext cx="1295640" cy="14479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 sequ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Annotation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5" idx="3"/>
            <a:endCxn id="365" idx="2"/>
          </p:cNvCxnSpPr>
          <p:nvPr/>
        </p:nvCxnSpPr>
        <p:spPr>
          <a:xfrm>
            <a:off x="5219640" y="3162240"/>
            <a:ext cx="1581840" cy="2363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762600" y="380880"/>
            <a:ext cx="1371600" cy="10670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TP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atfile ex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ollo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tgreSQL D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able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45" idx="3"/>
            <a:endCxn id="367" idx="1"/>
          </p:cNvCxnSpPr>
          <p:nvPr/>
        </p:nvCxnSpPr>
        <p:spPr>
          <a:xfrm flipV="1">
            <a:off x="5219640" y="914040"/>
            <a:ext cx="1543680" cy="22485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790640" y="1649520"/>
            <a:ext cx="838440" cy="838080"/>
          </a:xfrm>
          <a:prstGeom prst="flowChartMagneticDisk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  <a:endCxn id="355" idx="0"/>
          </p:cNvCxnSpPr>
          <p:nvPr/>
        </p:nvCxnSpPr>
        <p:spPr>
          <a:xfrm>
            <a:off x="2629080" y="2068200"/>
            <a:ext cx="457920" cy="101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94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00680" y="59436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5791320"/>
            <a:ext cx="914400" cy="85248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B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dnat" descr=""/>
          <p:cNvPicPr/>
          <p:nvPr/>
        </p:nvPicPr>
        <p:blipFill>
          <a:blip r:embed="rId5"/>
          <a:stretch/>
        </p:blipFill>
        <p:spPr>
          <a:xfrm>
            <a:off x="896760" y="5851440"/>
            <a:ext cx="398520" cy="730440"/>
          </a:xfrm>
          <a:prstGeom prst="rect">
            <a:avLst/>
          </a:prstGeom>
          <a:ln w="0">
            <a:noFill/>
          </a:ln>
        </p:spPr>
      </p:pic>
      <p:cxnSp>
        <p:nvCxnSpPr>
          <p:cNvPr id="375" name=""/>
          <p:cNvCxnSpPr>
            <a:stCxn id="374" idx="3"/>
            <a:endCxn id="373" idx="1"/>
          </p:cNvCxnSpPr>
          <p:nvPr/>
        </p:nvCxnSpPr>
        <p:spPr>
          <a:xfrm>
            <a:off x="1295280" y="6216120"/>
            <a:ext cx="457920" cy="2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76" name=""/>
          <p:cNvCxnSpPr>
            <a:stCxn id="373" idx="3"/>
            <a:endCxn id="357" idx="1"/>
          </p:cNvCxnSpPr>
          <p:nvPr/>
        </p:nvCxnSpPr>
        <p:spPr>
          <a:xfrm flipV="1">
            <a:off x="2666520" y="5455440"/>
            <a:ext cx="839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77" name=""/>
          <p:cNvGraphicFramePr/>
          <p:nvPr/>
        </p:nvGraphicFramePr>
        <p:xfrm>
          <a:off x="3990960" y="3157560"/>
          <a:ext cx="781200" cy="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0960" y="3157560"/>
                    <a:ext cx="781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45" idx="2"/>
            <a:endCxn id="331" idx="0"/>
          </p:cNvCxnSpPr>
          <p:nvPr/>
        </p:nvCxnSpPr>
        <p:spPr>
          <a:xfrm flipH="1">
            <a:off x="4114440" y="3695400"/>
            <a:ext cx="9151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31" idx="0"/>
            <a:endCxn id="350" idx="2"/>
          </p:cNvCxnSpPr>
          <p:nvPr/>
        </p:nvCxnSpPr>
        <p:spPr>
          <a:xfrm flipH="1" flipV="1">
            <a:off x="3276360" y="3695040"/>
            <a:ext cx="8388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90440" y="4762440"/>
            <a:ext cx="12193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om Lit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3"/>
            <a:endCxn id="353" idx="1"/>
          </p:cNvCxnSpPr>
          <p:nvPr/>
        </p:nvCxnSpPr>
        <p:spPr>
          <a:xfrm>
            <a:off x="1409760" y="4965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390840" y="6210360"/>
            <a:ext cx="14479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Model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65" idx="4"/>
            <a:endCxn id="362" idx="2"/>
          </p:cNvCxnSpPr>
          <p:nvPr/>
        </p:nvCxnSpPr>
        <p:spPr>
          <a:xfrm flipV="1">
            <a:off x="8096400" y="3314520"/>
            <a:ext cx="70524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7" idx="3"/>
            <a:endCxn id="362" idx="0"/>
          </p:cNvCxnSpPr>
          <p:nvPr/>
        </p:nvCxnSpPr>
        <p:spPr>
          <a:xfrm>
            <a:off x="8133840" y="914040"/>
            <a:ext cx="6678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61" idx="3"/>
            <a:endCxn id="362" idx="1"/>
          </p:cNvCxnSpPr>
          <p:nvPr/>
        </p:nvCxnSpPr>
        <p:spPr>
          <a:xfrm>
            <a:off x="8248680" y="3161880"/>
            <a:ext cx="21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28600" y="5791320"/>
            <a:ext cx="990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issPr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457200"/>
            <a:ext cx="685800" cy="838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3"/>
            <a:endCxn id="355" idx="0"/>
          </p:cNvCxnSpPr>
          <p:nvPr/>
        </p:nvCxnSpPr>
        <p:spPr>
          <a:xfrm>
            <a:off x="2857320" y="1294920"/>
            <a:ext cx="229320" cy="1791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90" name=""/>
          <p:cNvSpPr/>
          <p:nvPr/>
        </p:nvSpPr>
        <p:spPr>
          <a:xfrm>
            <a:off x="0" y="1600200"/>
            <a:ext cx="1600200" cy="93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s, 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B Cross 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erra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Construc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inser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3835440"/>
            <a:ext cx="99036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3657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1" idx="3"/>
            <a:endCxn id="392" idx="1"/>
          </p:cNvCxnSpPr>
          <p:nvPr/>
        </p:nvCxnSpPr>
        <p:spPr>
          <a:xfrm>
            <a:off x="1295280" y="40381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8160" y="2971800"/>
            <a:ext cx="6858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76240" y="2895480"/>
            <a:ext cx="68580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5" idx="3"/>
            <a:endCxn id="397" idx="1"/>
          </p:cNvCxnSpPr>
          <p:nvPr/>
        </p:nvCxnSpPr>
        <p:spPr>
          <a:xfrm>
            <a:off x="1561680" y="31618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7" idx="3"/>
            <a:endCxn id="355" idx="1"/>
          </p:cNvCxnSpPr>
          <p:nvPr/>
        </p:nvCxnSpPr>
        <p:spPr>
          <a:xfrm>
            <a:off x="2552760" y="3161880"/>
            <a:ext cx="496080" cy="10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99" name=""/>
          <p:cNvCxnSpPr>
            <a:stCxn id="390" idx="3"/>
            <a:endCxn id="369" idx="2"/>
          </p:cNvCxnSpPr>
          <p:nvPr/>
        </p:nvCxnSpPr>
        <p:spPr>
          <a:xfrm>
            <a:off x="1599840" y="2068200"/>
            <a:ext cx="19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94" idx="0"/>
            <a:endCxn id="355" idx="0"/>
          </p:cNvCxnSpPr>
          <p:nvPr/>
        </p:nvCxnSpPr>
        <p:spPr>
          <a:xfrm flipH="1" rot="16200000">
            <a:off x="1676160" y="1676160"/>
            <a:ext cx="115200" cy="2706120"/>
          </a:xfrm>
          <a:prstGeom prst="curvedConnector5">
            <a:avLst>
              <a:gd name="adj1" fmla="val -200000"/>
              <a:gd name="adj2" fmla="val 50000"/>
              <a:gd name="adj3" fmla="val -2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1866960" y="278136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V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t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3086280"/>
            <a:ext cx="75960" cy="15228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56000">
            <a:off x="2979360" y="3269880"/>
            <a:ext cx="11916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79000">
            <a:off x="2972880" y="2892600"/>
            <a:ext cx="119160" cy="11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114400">
            <a:off x="3001680" y="3085920"/>
            <a:ext cx="11880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73" idx="3"/>
            <a:endCxn id="401" idx="5"/>
          </p:cNvCxnSpPr>
          <p:nvPr/>
        </p:nvCxnSpPr>
        <p:spPr>
          <a:xfrm flipV="1">
            <a:off x="2666520" y="3343320"/>
            <a:ext cx="399240" cy="28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4724280" y="4572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Apollo chado  adapt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8078000">
            <a:off x="4062240" y="3938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3391200">
            <a:off x="5660640" y="4624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chadx2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8340200">
            <a:off x="5248080" y="16099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report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44" idx="3"/>
            <a:endCxn id="410" idx="1"/>
          </p:cNvCxnSpPr>
          <p:nvPr/>
        </p:nvCxnSpPr>
        <p:spPr>
          <a:xfrm>
            <a:off x="4114440" y="3695400"/>
            <a:ext cx="297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86600" y="4038480"/>
            <a:ext cx="808200" cy="685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brow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GMO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262908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ad-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690200">
            <a:off x="2195280" y="4662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4988400">
            <a:off x="2307600" y="210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gobo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505320" y="5029200"/>
            <a:ext cx="1206360" cy="853920"/>
            <a:chOff x="3505320" y="5029200"/>
            <a:chExt cx="1206360" cy="853920"/>
          </a:xfrm>
        </p:grpSpPr>
        <p:pic>
          <p:nvPicPr>
            <p:cNvPr id="414" name="" descr=""/>
            <p:cNvPicPr/>
            <p:nvPr/>
          </p:nvPicPr>
          <p:blipFill>
            <a:blip r:embed="rId10"/>
            <a:stretch/>
          </p:blipFill>
          <p:spPr>
            <a:xfrm>
              <a:off x="3505320" y="502920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727440" y="528804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O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ML Object to Relational Transl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D generator: DDL -&gt;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generates html, xml, .pl versions of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connected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ntax Verification: legal XML, correct element nes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Semantic verification: NULLness, cardinality, local ID re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nected: reference vali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ader-only: constraints, trigg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er: XML -&gt;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mper: DB -&gt; 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n by XML “dumpspec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XML to R-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1: XML is independent of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ensures modularity, freedom to change one without the other (but why would you want to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must maintain mapping when either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2: XML locked to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don’t have to learn two things, mapping is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see Pro abo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4876920"/>
            <a:ext cx="853416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XORT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(except primary key -- not visible in XM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w and generic: transaction and referenc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ment n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within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oined table within table -- joining column is implic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ign key table within foreign key colum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module distinctions in chado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dinality,  NULLness, data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685800" y="69840"/>
          <a:ext cx="769608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9840"/>
                    <a:ext cx="769608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bject Referenc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How to refer to persistent objects within XM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(a.k.a. foreign key colum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Unique Key Value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 can be in XML file or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local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ly for references to objects in same XM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ed not be in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ID can be any symbol - def before r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ces duplication within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Global acc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only for fe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ple extension mechanism using Per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y key val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foreign_key_col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primarytable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&lt;keycol1&gt;keyval1&lt;/keycol1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... more key cols if needed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/primarytab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/foreign_key_co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eatur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type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   &lt;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           &lt;cv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name&gt;Sequence Ontology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              &lt;/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cv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       &lt;name&gt;exon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&lt;/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&lt;/type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      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Local 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 id=“SO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Sequence Ontology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term id=“exon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_id&gt;SO&lt;/cv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exon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te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eatur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_id&gt;exon&lt;/type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mo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6440" y="1905120"/>
            <a:ext cx="8737560" cy="384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19520"/>
            <a:ext cx="6933960" cy="4572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Global Acce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feature_relationshi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subjfeature_id&gt;GB:g0123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subjfeature_i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ans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okup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lookup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insert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dele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upda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2&gt;val2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newval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ce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force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bination of lookup, insert and up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ML-driven extr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behavior: given an object class and ID, dump all direct values and linktables, with refs to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efault behavior specified by XML dumpspecs using same DTD with a few ad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dump= all | cols | select |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test = yes | 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sq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app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around with views, _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use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gene for a gene detail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scaffold for Ap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84680" y="0"/>
            <a:ext cx="449352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&lt;or&gt;CG3139&lt;/or&gt;&lt;or&gt;CG3497&lt;/or&gt;&lt;/unique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mRNA of those gene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mRNA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exo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exo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protei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protei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 test="no"&gt;&lt;or&gt;protein&lt;/or&gt;&lt;or&gt;exon&lt;/or&gt;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feature neither protein n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0"/>
            <a:ext cx="8001000" cy="63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r&gt;CG3139&lt;/or&gt;&lt;or&gt;CG3497&lt;/or&gt;&lt;/unique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mRNA of those genes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type_id&gt;mRNA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exons of those mRNA --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&lt;feature_relationshi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ype_id&gt;exon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&lt;-&gt; Apollo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3086280" y="2247840"/>
            <a:ext cx="243828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91040" y="2362320"/>
            <a:ext cx="38124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3"/>
          </p:cNvCxnSpPr>
          <p:nvPr/>
        </p:nvCxnSpPr>
        <p:spPr>
          <a:xfrm>
            <a:off x="3619440" y="289512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238560" y="236232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5" idx="1"/>
            <a:endCxn id="446" idx="3"/>
          </p:cNvCxnSpPr>
          <p:nvPr/>
        </p:nvCxnSpPr>
        <p:spPr>
          <a:xfrm flipH="1">
            <a:off x="4939920" y="5113080"/>
            <a:ext cx="11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8" idx="2"/>
            <a:endCxn id="445" idx="0"/>
          </p:cNvCxnSpPr>
          <p:nvPr/>
        </p:nvCxnSpPr>
        <p:spPr>
          <a:xfrm>
            <a:off x="6514920" y="3314880"/>
            <a:ext cx="10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1066680" y="384804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384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36232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1" idx="4"/>
            <a:endCxn id="441" idx="1"/>
          </p:cNvCxnSpPr>
          <p:nvPr/>
        </p:nvCxnSpPr>
        <p:spPr>
          <a:xfrm>
            <a:off x="4723920" y="28951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613404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41" idx="3"/>
            <a:endCxn id="448" idx="1"/>
          </p:cNvCxnSpPr>
          <p:nvPr/>
        </p:nvCxnSpPr>
        <p:spPr>
          <a:xfrm>
            <a:off x="5372280" y="2895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3733920" y="4686480"/>
            <a:ext cx="1206360" cy="853920"/>
            <a:chOff x="3733920" y="4686480"/>
            <a:chExt cx="1206360" cy="85392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3733920" y="468648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56040" y="494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60020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5" idx="1"/>
            <a:endCxn id="457" idx="3"/>
          </p:cNvCxnSpPr>
          <p:nvPr/>
        </p:nvCxnSpPr>
        <p:spPr>
          <a:xfrm flipH="1">
            <a:off x="2361960" y="511308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9" name=""/>
          <p:cNvSpPr/>
          <p:nvPr/>
        </p:nvSpPr>
        <p:spPr>
          <a:xfrm>
            <a:off x="160020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7" idx="0"/>
            <a:endCxn id="459" idx="2"/>
          </p:cNvCxnSpPr>
          <p:nvPr/>
        </p:nvCxnSpPr>
        <p:spPr>
          <a:xfrm flipV="1">
            <a:off x="1980720" y="3314520"/>
            <a:ext cx="1080" cy="13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59" idx="3"/>
            <a:endCxn id="443" idx="1"/>
          </p:cNvCxnSpPr>
          <p:nvPr/>
        </p:nvCxnSpPr>
        <p:spPr>
          <a:xfrm>
            <a:off x="2362320" y="2895120"/>
            <a:ext cx="876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 fi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s nex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 Apollo / chado roundt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V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comp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relationship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tics module - review in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I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-permeable XM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mapping, let schema v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for schema evolution -- 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-grained coupling of modules made possible by XML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lei Zhou - loader, dumper, XM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Smutniak - game2chadx, chadx2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in Wiel - gadfly2chado migration,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Emmert - schema, mi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Mungall, Suzi Lewis - schema,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 Letovsky - XML/tool design, dtd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Russo, Mark Z -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Gilbert - XML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tt Cain - GBROWSE/Ch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n Day - schema (expr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mar Lapp - ROI query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3894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94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0"/>
          <a:ext cx="45036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0"/>
                    <a:ext cx="450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530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spliced transcri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17" idx="0"/>
            <a:endCxn id="115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83544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6477120" y="4038480"/>
            <a:ext cx="761760" cy="2057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429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nd transcript (alt. Splicing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2" idx="0"/>
            <a:endCxn id="160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267080" y="2514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15000" y="2438280"/>
            <a:ext cx="228600" cy="76212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809880"/>
            <a:ext cx="2743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3809520"/>
            <a:ext cx="60984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791320" y="3809520"/>
            <a:ext cx="30456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629400" y="3809520"/>
            <a:ext cx="45720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809880"/>
            <a:ext cx="762120" cy="228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2971800"/>
            <a:ext cx="17524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2971800"/>
            <a:ext cx="990720" cy="3124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09720" y="2971800"/>
            <a:ext cx="30492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286000"/>
            <a:ext cx="914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5104800" y="243828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0" name=""/>
          <p:cNvCxnSpPr/>
          <p:nvPr/>
        </p:nvCxnSpPr>
        <p:spPr>
          <a:xfrm rot="5400000">
            <a:off x="4457160" y="316224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0"/>
          </p:cNvCxnSpPr>
          <p:nvPr/>
        </p:nvCxnSpPr>
        <p:spPr>
          <a:xfrm rot="5400000">
            <a:off x="3399840" y="3961080"/>
            <a:ext cx="1276560" cy="915120"/>
          </a:xfrm>
          <a:prstGeom prst="curvedConnector5">
            <a:avLst>
              <a:gd name="adj1" fmla="val 33201"/>
              <a:gd name="adj2" fmla="val 49980"/>
              <a:gd name="adj3" fmla="val 3320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057400" y="4343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34290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ological Cas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-splic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876920" y="1828800"/>
            <a:ext cx="4114800" cy="368280"/>
            <a:chOff x="4876920" y="1828800"/>
            <a:chExt cx="4114800" cy="368280"/>
          </a:xfrm>
        </p:grpSpPr>
        <p:sp>
          <p:nvSpPr>
            <p:cNvPr id="222" name=""/>
            <p:cNvSpPr/>
            <p:nvPr/>
          </p:nvSpPr>
          <p:spPr>
            <a:xfrm>
              <a:off x="77724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2057400"/>
              <a:ext cx="10666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3733920"/>
            <a:ext cx="22860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3733920"/>
            <a:ext cx="3808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3733920"/>
            <a:ext cx="6094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933960" y="3733920"/>
            <a:ext cx="15228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248520" y="3733920"/>
            <a:ext cx="30456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3" idx="0"/>
            <a:endCxn id="217" idx="0"/>
          </p:cNvCxnSpPr>
          <p:nvPr/>
        </p:nvCxnSpPr>
        <p:spPr>
          <a:xfrm rot="5400000">
            <a:off x="2742480" y="4019760"/>
            <a:ext cx="1372320" cy="762480"/>
          </a:xfrm>
          <a:prstGeom prst="curvedConnector5">
            <a:avLst>
              <a:gd name="adj1" fmla="val 59590"/>
              <a:gd name="adj2" fmla="val 49976"/>
              <a:gd name="adj3" fmla="val 5959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endCxn id="252" idx="0"/>
          </p:cNvCxnSpPr>
          <p:nvPr/>
        </p:nvCxnSpPr>
        <p:spPr>
          <a:xfrm rot="5400000">
            <a:off x="4028400" y="2676600"/>
            <a:ext cx="629280" cy="457920"/>
          </a:xfrm>
          <a:prstGeom prst="curvedConnector5">
            <a:avLst>
              <a:gd name="adj1" fmla="val 32283"/>
              <a:gd name="adj2" fmla="val 26514"/>
              <a:gd name="adj3" fmla="val 32283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53" name=""/>
          <p:cNvCxnSpPr/>
          <p:nvPr/>
        </p:nvCxnSpPr>
        <p:spPr>
          <a:xfrm rot="5400000">
            <a:off x="5142600" y="2095200"/>
            <a:ext cx="457920" cy="3819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705720" y="3733920"/>
            <a:ext cx="53316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20040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90920"/>
            <a:ext cx="23619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320040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71840" y="3200400"/>
            <a:ext cx="3049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3352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59" idx="0"/>
          </p:cNvCxnSpPr>
          <p:nvPr/>
        </p:nvCxnSpPr>
        <p:spPr>
          <a:xfrm flipH="1" rot="16200000">
            <a:off x="6828480" y="4314600"/>
            <a:ext cx="1353240" cy="229320"/>
          </a:xfrm>
          <a:prstGeom prst="curvedConnector5">
            <a:avLst>
              <a:gd name="adj1" fmla="val 49281"/>
              <a:gd name="adj2" fmla="val 50000"/>
              <a:gd name="adj3" fmla="val 4928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0920" y="3733920"/>
            <a:ext cx="68580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200400"/>
            <a:ext cx="30492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57440" y="2590920"/>
            <a:ext cx="609480" cy="609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590920"/>
            <a:ext cx="762120" cy="3504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irwise Al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64832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2286000"/>
            <a:ext cx="2361960" cy="368280"/>
            <a:chOff x="533520" y="2286000"/>
            <a:chExt cx="2361960" cy="368280"/>
          </a:xfrm>
        </p:grpSpPr>
        <p:sp>
          <p:nvSpPr>
            <p:cNvPr id="280" name=""/>
            <p:cNvSpPr/>
            <p:nvPr/>
          </p:nvSpPr>
          <p:spPr>
            <a:xfrm>
              <a:off x="533520" y="2468520"/>
              <a:ext cx="380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turel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866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9810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666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48520" y="1980720"/>
            <a:ext cx="1066680" cy="4115160"/>
            <a:chOff x="6248520" y="1980720"/>
            <a:chExt cx="1066680" cy="4115160"/>
          </a:xfrm>
        </p:grpSpPr>
        <p:sp>
          <p:nvSpPr>
            <p:cNvPr id="287" name=""/>
            <p:cNvSpPr/>
            <p:nvPr/>
          </p:nvSpPr>
          <p:spPr>
            <a:xfrm>
              <a:off x="6248520" y="4114800"/>
              <a:ext cx="1066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4114800"/>
              <a:ext cx="0" cy="198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29400" y="1980720"/>
              <a:ext cx="0" cy="2133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920" y="1980720"/>
            <a:ext cx="2971800" cy="4115160"/>
            <a:chOff x="4876920" y="1980720"/>
            <a:chExt cx="2971800" cy="4115160"/>
          </a:xfrm>
        </p:grpSpPr>
        <p:sp>
          <p:nvSpPr>
            <p:cNvPr id="291" name=""/>
            <p:cNvSpPr/>
            <p:nvPr/>
          </p:nvSpPr>
          <p:spPr>
            <a:xfrm>
              <a:off x="4876920" y="4495680"/>
              <a:ext cx="2514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4495680"/>
              <a:ext cx="0" cy="16002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81680" y="1980720"/>
              <a:ext cx="0" cy="25146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 flipH="1" flipV="1">
              <a:off x="5562000" y="4146480"/>
              <a:ext cx="610200" cy="31788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295" name=""/>
            <p:cNvCxnSpPr/>
            <p:nvPr/>
          </p:nvCxnSpPr>
          <p:spPr>
            <a:xfrm flipV="1">
              <a:off x="6095880" y="4114440"/>
              <a:ext cx="610560" cy="38160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sp>
          <p:nvSpPr>
            <p:cNvPr id="296" name=""/>
            <p:cNvSpPr/>
            <p:nvPr/>
          </p:nvSpPr>
          <p:spPr>
            <a:xfrm>
              <a:off x="6858000" y="4191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ffff"/>
                  </a:solidFill>
                  <a:latin typeface="Times New Roman"/>
                </a:rPr>
                <a:t>par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47242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2819520"/>
            <a:ext cx="0" cy="1295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1240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274320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0:41:40Z</dcterms:created>
  <dc:creator>Stan Letovsky</dc:creator>
  <dc:description/>
  <dc:language>en-US</dc:language>
  <cp:lastModifiedBy>Stan Letovsky</cp:lastModifiedBy>
  <dcterms:modified xsi:type="dcterms:W3CDTF">2003-05-02T16:54:07Z</dcterms:modified>
  <cp:revision>95</cp:revision>
  <dc:subject/>
  <dc:title>No Slide Title</dc:title>
</cp:coreProperties>
</file>